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я для инструкто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сведения о настройке этого шаблона см. на самом последнем слайде. Кроме того, на некоторых слайдах в области заметок имеются дополнительные материалы к занят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содержит анимацию Macromedia Flash, поэтому при сохранении шаблона может быть выдано предупреждение, касающееся личных сведений. Если эти сведения не были добавлены в свойства самого файла Flash, такое предупреждение не будет выдаваться для презентации. Нажмите в окне сообщения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ного подробнее о каждом зна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d встав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к абза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каждом нажатии клавиши ВВОД, чтобы начать новый абзац. На рисунке виден лишний знак абзаца между двумя абзацами; это означает, что клавиша ВВОД была нажата два раза. В результате промежуток между абзацами увеличился. Удаление лишнего знака абзаца позволит уменьшить этот промежут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аждом нажатии клавиши TAB появляется од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л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 рисунке видна одна стрелка в первом абзаце и две стрелки во втором, то есть клавиша TAB во втором абзаце была нажата два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казывают, сколько раз была нажата клавиша ПРОБЕЛ перед вводом очередного слова и не была ли она случайно нажата перед вводом какой-либо буквы посреди слова. Одна точка — это один пробел, две точки — два пробела. Обычно между словами должен быть один пробел. Кстати, эти точки не следует путать с точками в конце предложения. Точки, заканчивающие предложения, отображаются всегда и находятся внизу строки. Точки, обозначающие пробелы, расположены выше, на уровне середины высоты стро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ще о красном подчеркиван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слово введено без ошибок, но не распознано в Word, можно добавить его в словарь Word, чтобы оно в будущем не подчеркивало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ще о синем подчеркиван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пример, введено слово «нет», а должно быть «н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е замечание по поводу зеленых и синих линий подчеркивания. В Word очень хорошо проверяется орфография, которая в большинстве случаев достаточно очевидна. Однако проверка грамматики и словоупотребления требует некоторых размышлений. При уверенности в своей правоте можно проигнорировать предлагаемые исправления и убрать линии подчерк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если не нужно каждый раз прерывать работу при появлении волнистых линий подчеркивания, можете просто не обращать на них внимания. Закончив работу, выполните проверку орфографии и грамматики во всем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е для инструктора.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оспроизведения анимации во время показа слайдов щелкните ее правой кнопкой мыши и выбери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росмотрев анимацию один раз, можно выбрать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мо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 том же контекстном меню) и затем снова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ри щелчке в слайде для ввода текста или перехода к следующему слайду ничего не происходит, щелкните вне объекта анимации. Иногда приходится щелкать дважды. В случае неполадок с просмотром анимации ознакомьтесь с заметками к последнему слайду этой презентации, касающимися воспроизведения анимации Macromedia Flash. Если и после этого будут возникать проблемы, используйте следующий слайд со статичным изображением: это дубликат данного слайда. Перед показом презентации удалите один из этих двух слайдов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е замечание по поводу зеленых и синих линий подчеркивания. В Word очень хорошо проверяется орфография, которая в большинстве случаев достаточно очевидна. Однако проверка грамматики и словоупотребления требует некоторых размышлений. При уверенности в своей правоте можно проигнорировать предлагаемые исправления и убрать линии подчерк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если не нужно каждый раз прерывать работу при появлении волнистых линий подчеркивания, можете просто не обращать на них внимания. Закончив работу, выполните проверку орфографии и грамматики во всем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е для инструкто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лайд идентичен предыдущему, только вместо анимации на нем показано статичное изображение. Данный слайд следует использовать в случае проблем с просмотром анимации. Перед показом презентации удалите один из этих двух слайдов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,54 см (1 дюйм) — наиболее распространенная ширина полей вверху, внизу, слева и справа страницы; ее можно использовать в большинстве доку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боре поля цвет значка этого поля изменится. При повторном нажатии кноп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акое выделение цветом позволит понять, какой размер поля установлен для доку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раньше сохранить результаты работы, тем лучш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для сохранения сочетание клавиш CTRL+S (нажмите клавишу CTRL и, удерживая ее, нажмите клавишу 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быстро найти документ после его закрытия воспользуйтесь списко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дние доку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казанным на рисунке. Для открытия документа щелкните его в этом спис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е для инструкто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на компьютере установлено приложение Word 2007, для перехода к интерактивному практическому заданию достаточно щелкнуть ссылку на слайде. При выполнении задания можно пользоваться инструкциями, которые прилагаются к каждому упражнению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приложение Word 2007 не установлено, инструкции к практическому заданию будут недоступны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56840"/>
            <a:ext cx="5486400" cy="79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шаб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шаблоне презентации Microsoft Office PowerPoint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содержатся учебные материалы, объясняющие, как приступать к работе по созданию первого документа Microsoft Office Word 2007. Шаблон допускает настройку и может использоваться при проведении группов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имое данного шаблона представляет собой адаптированный вариант интерактивного учебного курса «Знакомство с Word 2007, часть I: создание первого документа», доступного на веб-узле Microsoft Office Online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и шаб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тульный слайд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первом слайде вместо текста-заполнителя в квадратных скобках введите название своей организации. Если его не требуется показывать, просто удалите это текстовое п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им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протяжении всей презентации используются эффекты анимации. В их число входят такие эффекты, ка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вор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Шаш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се эффекты воспроизводятся в предыдущих версиях вплоть до Microsoft PowerPoint 2000. Для изменения эффектов анимации 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ройка ани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установите необходимые парамет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мотр анимации Macromedia Flash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воспроизведения файла Flash необходимо зарегистрировать на компьютере элемент Microsoft ActiveX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с именем «Объект Shockwave Flash». Для этого загрузите с веб-узла Macromedia последнюю версию проигрывателя Macromedia Fla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на слайд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протяжении всего показа используется эффект смены слайд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вление сверх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тобы применить другой эффект, 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на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установите необходимые парамет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перссылки на интерактивный ку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шаблоне содержатся ссылки на версию учебного курса, размещенную в Интернете. По этим ссылкам доступны материалы практических заданий к занятию 2 и краткий справочник по курсу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смотра практических заданий необходимо установить Word 2007, в противном случае инструкции к этим заданиям будут недоступ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онтитул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шаблоне имеется нижний колонтитул с названием учебного курса. Можно изменить этот текст или удалить нижний колонтитул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крываемом из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чинающего пользователя сразу возникают вопросы. Где начинать вводить текст на странице? Как сделать отступ в первой строке абзаца? Как изменить поля страницы, если они вас не устраивают? Наконец, как сохранить результаты работы, чтобы не потерять их после закрытия Wor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5ED-BFC9-4DDF-ADA8-FFCBE89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3C4-3DA8-496E-AE4C-13951083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308-46A8-46EB-A385-59201F7E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184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268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100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184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268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67D-E916-44CA-AF86-06BE2709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1EB1-2300-4689-B8F1-D4C82BE6A2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6A6A-E072-46B2-9E3F-881E7211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F4E92-A39E-4A6A-AB90-1D8A720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E9CE2-A2D8-4101-94A5-E320262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A40F-F8EB-4B12-AB38-AC600F8B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14200" y="7272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B7A82-8AF4-407A-AEF3-73E12876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F689-0D9C-4093-B8F2-045F8784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546-E57F-4605-BAA1-011C480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44F6-DC7A-4994-B151-5E1680F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6E48-D059-46C8-A7ED-F782A775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2256-3FB5-4980-A85A-70E69BF3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82EE-4913-4868-8244-4DAFAC4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184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268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100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184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268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FF64A-F546-472E-803A-0A1CA12E7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E75-2D07-4D76-B8B0-8F8B9CB1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3A1-87B8-45F8-B1FD-BF73FD3C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1D0-24FC-4BB1-B690-4859F3D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4200" y="7272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EFF-135A-41CF-A23D-E8CB874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811-7B1A-4220-B0F9-F51EE00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D4F-106E-4F8E-AAF6-B8B28332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FBA-C43A-4CAE-982A-820B4DE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74760" y="6187680"/>
            <a:ext cx="48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Times New Roman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Times New Roman"/>
              </a:rPr>
              <a:t>‹</a:t>
            </a:r>
            <a:r>
              <a:rPr b="0" lang="ru-RU" sz="1600" spc="-1" strike="noStrike">
                <a:solidFill>
                  <a:srgbClr val="005ab4"/>
                </a:solidFill>
                <a:latin typeface="Times New Roman"/>
              </a:rPr>
              <a:t>#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Times New Roman"/>
              </a:rPr>
              <a:t>‹</a:t>
            </a:r>
            <a:r>
              <a:rPr b="0" lang="ru-RU" sz="2400" spc="-1" strike="noStrike">
                <a:solidFill>
                  <a:srgbClr val="005ab4"/>
                </a:solidFill>
                <a:latin typeface="Times New Roman"/>
              </a:rPr>
              <a:t>#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training/Training.aspx?AssetID=RP102275011033&amp;CTT=6&amp;Origin=RC10227500103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training/Training.aspx?AssetID=RP102275031033&amp;CTT=6&amp;Origin=RC10227500103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2760" y="1655280"/>
            <a:ext cx="6919920" cy="20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Учебные курсы по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0" lang="ru-RU" sz="2800" spc="-1" strike="noStrike" baseline="70000">
                <a:solidFill>
                  <a:srgbClr val="ffffff"/>
                </a:solidFill>
                <a:latin typeface="Arial"/>
                <a:ea typeface="Tahoma"/>
              </a:rPr>
              <a:t>®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Office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Word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ahoma"/>
              </a:rPr>
              <a:t>2007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90840"/>
            <a:ext cx="64008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здание первого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019240" y="5065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[Название вашей организации] представ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Что это такое? 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119640" y="853920"/>
            <a:ext cx="289908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оложим, введено несколько абзацев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м кажется, что они расположены слишком далеко друг от друга, и второй абзац начинается правее, чем пер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77920" y="3994200"/>
            <a:ext cx="5925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понять, что происходит, взгляните на знаки форматирования, автоматически вставляемые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процессе в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Эти знаки всегда присутствуют в документе,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о остаются невидимыми, если их не отобразить специа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Метки абзаца, табуляции и пробела в документе Word"/>
          <p:cNvPicPr/>
          <p:nvPr/>
        </p:nvPicPr>
        <p:blipFill>
          <a:blip r:embed="rId2"/>
          <a:stretch/>
        </p:blipFill>
        <p:spPr>
          <a:xfrm>
            <a:off x="368280" y="946080"/>
            <a:ext cx="5578560" cy="281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Что это такое? 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119640" y="853920"/>
            <a:ext cx="28022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увидеть знаки форматирования, воспользуйтесь лентой, расположенной вверху ок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77920" y="3994200"/>
            <a:ext cx="59259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вкладк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лавная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в групп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бзац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образить все знаки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. Чтобы скрыть знаки форматирования, еще раз нажмите эту кно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Изображение кнопки"/>
          <p:cNvPicPr/>
          <p:nvPr/>
        </p:nvPicPr>
        <p:blipFill>
          <a:blip r:embed="rId2"/>
          <a:stretch/>
        </p:blipFill>
        <p:spPr>
          <a:xfrm>
            <a:off x="5281560" y="4356000"/>
            <a:ext cx="266760" cy="227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264960" y="4992840"/>
            <a:ext cx="5926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Эти знаки предназначены не только для просмотра. Удаляя лишние знаки, можно уменьшать чрезмерно большие интерв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Метки абзаца, табуляции и пробела в документе Word"/>
          <p:cNvPicPr/>
          <p:nvPr/>
        </p:nvPicPr>
        <p:blipFill>
          <a:blip r:embed="rId3"/>
          <a:stretch/>
        </p:blipFill>
        <p:spPr>
          <a:xfrm>
            <a:off x="368280" y="946080"/>
            <a:ext cx="5578560" cy="281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Что это такое? 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119640" y="853920"/>
            <a:ext cx="2745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, что представляют собой знаки форматирования и что они означают? На рисунке показано несколько прим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339840" y="4067280"/>
          <a:ext cx="2696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06728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339840" y="4462560"/>
          <a:ext cx="26964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446256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339840" y="5359320"/>
          <a:ext cx="26964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9840" y="535932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Line 9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76440" y="4048200"/>
            <a:ext cx="594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Лишний знак абзаца: клавиша ВВОД была нажата два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Лишний знак табуляции: клавиша TAB была нажата два раза, в связи с чем отступ во втором абзаце оказался больше, чем в пер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Лишний пробел между словами: клавиша ПРОБЕЛ была нажата два раза вместо одного.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Метки абзаца, табуляции и пробела в документе Word"/>
          <p:cNvPicPr/>
          <p:nvPr/>
        </p:nvPicPr>
        <p:blipFill>
          <a:blip r:embed="rId8"/>
          <a:stretch/>
        </p:blipFill>
        <p:spPr>
          <a:xfrm>
            <a:off x="368280" y="946080"/>
            <a:ext cx="5578560" cy="281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Arial"/>
              </a:rPr>
              <a:t>Что означают эти линии подчеркивания в документе?</a:t>
            </a:r>
            <a:endParaRPr b="0" lang="en-US" sz="2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цессе ввода текста под словами иногда могут появляться волнистые линии красного, зеленого или сине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43000" y="4011480"/>
            <a:ext cx="53989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349"/>
              </a:spcBef>
              <a:spcAft>
                <a:spcPts val="788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расная линия:</a:t>
            </a: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 означает, что в слове, возможно, имеется орфографическая ошибка или что оно не было распознано 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в Word (например, если это имя собственное или географическое назва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349"/>
              </a:spcBef>
              <a:spcAft>
                <a:spcPts val="788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Зеленая линия: </a:t>
            </a: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Word предлагает пересмотреть грамматическую структуру предлож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349"/>
              </a:spcBef>
              <a:spcAft>
                <a:spcPts val="788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Синяя линия: </a:t>
            </a: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слово написано правильно, но возможно, что оно неверно употреблено в предлож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?AssetID=ZA102256881049"/>
          <p:cNvPicPr/>
          <p:nvPr/>
        </p:nvPicPr>
        <p:blipFill>
          <a:blip r:embed="rId2"/>
          <a:stretch/>
        </p:blipFill>
        <p:spPr>
          <a:xfrm>
            <a:off x="343080" y="939960"/>
            <a:ext cx="5580000" cy="281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Arial"/>
              </a:rPr>
              <a:t>Что означают эти линии подчеркивания в документе?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мация показывает, что можно сделать при появлении волнистых линий подчерки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39840" y="4653000"/>
            <a:ext cx="58640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Щелкните подчеркнутое слово правой кнопкой мыши, чтобы просмотреть предлагаемые исправления (иногда они могут отсутствовать). Щелкните исправленный вариант, чтобы заменить им слово в документе и убрать подчер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39840" y="4035600"/>
            <a:ext cx="66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Анимация: щелкните правой кнопкой мыши и выберите 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Воспроизведение</a:t>
            </a: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hockwaveFlash1"/>
          <p:cNvGraphicFramePr/>
          <p:nvPr/>
        </p:nvGraphicFramePr>
        <p:xfrm>
          <a:off x="358920" y="880920"/>
          <a:ext cx="56498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920" y="880920"/>
                    <a:ext cx="5649840" cy="2874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Arial"/>
              </a:rPr>
              <a:t>Что означают эти линии подчеркивания в документе?</a:t>
            </a:r>
            <a:endParaRPr b="0" lang="en-US" sz="2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исунке показан пример возможных действий при появлении волнистой линии подчеркивани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данном случае красной (орфограф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77920" y="3994200"/>
            <a:ext cx="5864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Щелкните подчеркнутое слово правой кнопкой мыши, чтобы просмотреть предлагаемые исправления (иногда они могут отсутствоват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Щелкните исправленный вариант, чтобы заменить им слово в документе и убрать подчер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?AssetID=ZA102256881049"/>
          <p:cNvPicPr/>
          <p:nvPr/>
        </p:nvPicPr>
        <p:blipFill>
          <a:blip r:embed="rId2"/>
          <a:stretch/>
        </p:blipFill>
        <p:spPr>
          <a:xfrm>
            <a:off x="343080" y="939960"/>
            <a:ext cx="5580000" cy="281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полей страниц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9640" y="853920"/>
            <a:ext cx="2664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я страницы — это пустое пространство по краям стра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умолчанию размер полей вверху, внизу, слева и справастраницы равен 2,54 с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77920" y="3994200"/>
            <a:ext cx="59259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днако если нужны другие поля, следует знать, как их изменить; это можно сделать в люб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пример, при вводе текста короткого письмв, рецепта, приглашения или стихотворения для них могут потребоваться другие п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Различные поля страницы в приложении Word"/>
          <p:cNvPicPr/>
          <p:nvPr/>
        </p:nvPicPr>
        <p:blipFill>
          <a:blip r:embed="rId2"/>
          <a:stretch/>
        </p:blipFill>
        <p:spPr>
          <a:xfrm>
            <a:off x="343080" y="922320"/>
            <a:ext cx="56037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полей страниц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изменить поля, воспользуйтесь лентой, расположенной вверху ок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77920" y="3994200"/>
            <a:ext cx="53355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ерейдите на вклад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зметка страниц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.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групп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араметры страниц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ля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явится список различных вариантов полей, представленных небольшими рисунками (значками) с указанием размеров каждого п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Различные поля страницы в приложении Word"/>
          <p:cNvPicPr/>
          <p:nvPr/>
        </p:nvPicPr>
        <p:blipFill>
          <a:blip r:embed="rId2"/>
          <a:stretch/>
        </p:blipFill>
        <p:spPr>
          <a:xfrm>
            <a:off x="343080" y="922320"/>
            <a:ext cx="56037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полей страниц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ое сочетание полей в списке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ыч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это текущий вари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77920" y="3994200"/>
            <a:ext cx="592596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сузить поля, выберите вариант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зкое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Если необходимо сделать левое и правое поля более широкими, выберите вариант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Широкое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сле выбора нужного типа полей весь документ автоматически преобразуется в соответствии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 выбранным вариа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Различные поля страницы в приложении Word"/>
          <p:cNvPicPr/>
          <p:nvPr/>
        </p:nvPicPr>
        <p:blipFill>
          <a:blip r:embed="rId2"/>
          <a:stretch/>
        </p:blipFill>
        <p:spPr>
          <a:xfrm>
            <a:off x="343080" y="922320"/>
            <a:ext cx="56037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хранение результатов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119640" y="833400"/>
            <a:ext cx="27450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предположим, что введено тщательно продуманное предложение или несколько абзацев текста, которые было бы жалко потерять из-за внезапного прыжка кошки на клавиатуру или скачка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339840" y="4535640"/>
          <a:ext cx="2696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53564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339840" y="5251320"/>
          <a:ext cx="2696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525132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8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76440" y="4502160"/>
            <a:ext cx="64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Нажмите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кнопку Microsoft Office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 левом верхнем углу ок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277920" y="3994200"/>
            <a:ext cx="69213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"/>
              </a:rPr>
              <a:t>Чтобы не потерять результаты работы, сохраните их. Чем раньше, тем лучш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Изображение кнопки"/>
          <p:cNvPicPr/>
          <p:nvPr/>
        </p:nvPicPr>
        <p:blipFill>
          <a:blip r:embed="rId6"/>
          <a:stretch/>
        </p:blipFill>
        <p:spPr>
          <a:xfrm>
            <a:off x="4014720" y="453060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3"/>
          <p:cNvSpPr/>
          <p:nvPr/>
        </p:nvSpPr>
        <p:spPr>
          <a:xfrm>
            <a:off x="684360" y="5232240"/>
            <a:ext cx="59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ыберите команду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охранить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. Откроется диалоговое окно, в котором на указать, в каком месте на компьютере следует сохранить документ и какое имя ему присво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Чтобы сохранить документ, следует нажать кнопку Microsoft Office в верхнем левом углу окна"/>
          <p:cNvPicPr/>
          <p:nvPr/>
        </p:nvPicPr>
        <p:blipFill>
          <a:blip r:embed="rId7"/>
          <a:stretch/>
        </p:blipFill>
        <p:spPr>
          <a:xfrm>
            <a:off x="333360" y="906480"/>
            <a:ext cx="563256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держание курс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28360"/>
            <a:ext cx="843120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276120">
              <a:spcBef>
                <a:spcPts val="700"/>
              </a:spcBef>
              <a:spcAft>
                <a:spcPts val="2625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зор. Для тех, кто впервые работает в 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700"/>
              </a:spcBef>
              <a:spcAft>
                <a:spcPts val="2625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е. Знакомство с доку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8600" y="4610160"/>
            <a:ext cx="82296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е включает в себя несколько практических заданий и списокконтрольны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хранение результатов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119640" y="833400"/>
            <a:ext cx="27450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ая работу после сохранения документа, периодически сохраняйте внесен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77920" y="3994200"/>
            <a:ext cx="59259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ля этого время от времени нажимай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охранит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панели быстрого доступа в левом верхнем углу 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Изображение кнопки"/>
          <p:cNvPicPr/>
          <p:nvPr/>
        </p:nvPicPr>
        <p:blipFill>
          <a:blip r:embed="rId2"/>
          <a:stretch/>
        </p:blipFill>
        <p:spPr>
          <a:xfrm>
            <a:off x="1646280" y="434340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Чтобы сохранить документ, следует нажать кнопку Microsoft Office в верхнем левом углу окна"/>
          <p:cNvPicPr/>
          <p:nvPr/>
        </p:nvPicPr>
        <p:blipFill>
          <a:blip r:embed="rId3"/>
          <a:stretch/>
        </p:blipFill>
        <p:spPr>
          <a:xfrm>
            <a:off x="333360" y="906480"/>
            <a:ext cx="5632560" cy="2840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Панель быстрого доступа"/>
          <p:cNvPicPr/>
          <p:nvPr/>
        </p:nvPicPr>
        <p:blipFill>
          <a:blip r:embed="rId4"/>
          <a:stretch/>
        </p:blipFill>
        <p:spPr>
          <a:xfrm>
            <a:off x="351000" y="4997520"/>
            <a:ext cx="1703160" cy="60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хранение результатов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119640" y="833400"/>
            <a:ext cx="27450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ая работу после сохранения документа, периодически сохраняйте внесен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77920" y="3994200"/>
            <a:ext cx="5925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Завершив работу с документом и сохранив его, закройте файл. Нажмит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 кнопку Office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и выберите команд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Закрыт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Чтобы сохранить документ, следует нажать кнопку Microsoft Office в верхнем левом углу окна"/>
          <p:cNvPicPr/>
          <p:nvPr/>
        </p:nvPicPr>
        <p:blipFill>
          <a:blip r:embed="rId2"/>
          <a:stretch/>
        </p:blipFill>
        <p:spPr>
          <a:xfrm>
            <a:off x="333360" y="906480"/>
            <a:ext cx="563256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Упражнения для практического занятия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813960"/>
            <a:ext cx="89060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ите знаки формат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едите текст в докуме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те действия в соответствии со знаками испра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ите поля стра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ите докум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93760" y="4622760"/>
            <a:ext cx="8431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Интерактивное практическое зад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ребуется Word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1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2120" y="851040"/>
            <a:ext cx="529272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гда следует сохранять документ? (Выберите один отве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43000" y="2344680"/>
            <a:ext cx="76248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коре после начала работы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ончании ввода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ет 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1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3640" y="815760"/>
            <a:ext cx="8350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коре после начала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99880" y="2000160"/>
            <a:ext cx="78613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пропала вся проделанная работа, достаточно секунды. Возьмите за правило как можно раньше выполнять сохранение и затем регулярно делать это 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2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000" y="851040"/>
            <a:ext cx="751032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 подчеркнуто красной линией. Это означает, что оно неправильнонаписано.  (Выберите один отве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43000" y="2241720"/>
            <a:ext cx="762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Ж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2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1720" y="836280"/>
            <a:ext cx="8350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Ж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37960" y="2082960"/>
            <a:ext cx="83505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равильно написанные слова подчеркиваются в Word красной волнистой линией. Однако словарь Word содержит не все слова. Некоторые слова, например имена собственные, тоже могут подчеркиваться, так как не распознаются в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3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000" y="851040"/>
            <a:ext cx="636264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 в документе подчеркнуто синей линией. В чем дело? (Выберите один отве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43000" y="2241720"/>
            <a:ext cx="67420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грамматическая ошиб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о написано правильно, но неверно употребля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равильно написано имя собственно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3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2080" y="877680"/>
            <a:ext cx="678024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о написано правильно, но неверно употребляется в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37960" y="2124000"/>
            <a:ext cx="7417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имер, синей линией будет подчеркнуто слово «нет», если вместо него должно стоять«н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раткий справочник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5760" y="882360"/>
            <a:ext cx="69613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дку практических заданий этого учебного курса см. 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кратком справочни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 rot="10800000">
            <a:off x="304920" y="650880"/>
            <a:ext cx="1000080" cy="541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8313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ab4"/>
                </a:solidFill>
                <a:latin typeface="Arial"/>
              </a:rPr>
              <a:t>Обзор. Для тех, кто работает в Word впервые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52560" y="880920"/>
            <a:ext cx="546264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 хотите работать в Word 2007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е знаете, с чего нач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курс знакомит с основными правилами создания первого докум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 узнаете, как ввести текс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ужном месте на странице, как исправлять ошибки, как изменять интервалы и страничные поля, как сохранять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Документ Word"/>
          <p:cNvPicPr/>
          <p:nvPr/>
        </p:nvPicPr>
        <p:blipFill>
          <a:blip r:embed="rId2"/>
          <a:stretch/>
        </p:blipFill>
        <p:spPr>
          <a:xfrm>
            <a:off x="366840" y="1120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ИЕ ЭТОГО ШАБЛОНА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одробную справку по данному шаблону см. в области заметок внизу страницы или на отдельной странице заметок </a:t>
            </a: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(на вкладке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ид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Цель этого курса — научить пользователя выполнять следующие действия: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64720"/>
            <a:ext cx="84312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вать и сохранять докум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ть или отклонять предлагаемые исправления орфографических и грамматических ошибок в процессе ввода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ять поля стра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ять интервалы в тексте, удаляя лишние пробелы между словами и лишние строки между абза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нятие 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накомство с доку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Знакомство с документом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ткрытии Word появляется окн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ым докумен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ыглядит как лист бумаги и занимает большую часть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77920" y="3994200"/>
            <a:ext cx="57420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так, необходимо научиться работать в Word, но вы незнакомы с приложением, и вас интересует,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 чего следует начин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начале познакомим вас с некоторыми основными правилами работы в Wo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Пустой документ Word"/>
          <p:cNvPicPr/>
          <p:nvPr/>
        </p:nvPicPr>
        <p:blipFill>
          <a:blip r:embed="rId2"/>
          <a:stretch/>
        </p:blipFill>
        <p:spPr>
          <a:xfrm>
            <a:off x="343080" y="939960"/>
            <a:ext cx="565308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Просто начните вводить текс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119640" y="853920"/>
            <a:ext cx="240192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ните 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н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со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339840" y="4081320"/>
          <a:ext cx="269640" cy="3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08132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5"/>
          <p:cNvGraphicFramePr/>
          <p:nvPr/>
        </p:nvGraphicFramePr>
        <p:xfrm>
          <a:off x="347760" y="4959360"/>
          <a:ext cx="26964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760" y="495936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76440" y="4048200"/>
            <a:ext cx="594036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Над документом вверху окна Word находится лента. 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 помощью кнопок и команд ленты можно задавать действия, которые должны выполняться в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Word ждет, когда начнется ввод. Курсор — мигающая вертикальная черта в левом верхнем углу страницы — обозначает место на странице, где начнет появляться вводим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Лента в верхней части страницы и точка вставки текста в пустом документе"/>
          <p:cNvPicPr/>
          <p:nvPr/>
        </p:nvPicPr>
        <p:blipFill>
          <a:blip r:embed="rId6"/>
          <a:stretch/>
        </p:blipFill>
        <p:spPr>
          <a:xfrm>
            <a:off x="366840" y="920880"/>
            <a:ext cx="5640120" cy="28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Просто начните вводить текс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19640" y="853920"/>
            <a:ext cx="235296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ните 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н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со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77920" y="3994200"/>
            <a:ext cx="59259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Если ввод текста необходимо начать не вверху страницы, 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а ниже, нажмите клавишу ВВОД несколько раз, пока курсор не окажется там, где следует вводить тек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64960" y="5075280"/>
            <a:ext cx="5926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Чтобы начать ввод в первой строке с отступом, нажмите клавишу TAB, прежде чем вводить текст. При этом курсор сместится вправо на полдюйма (1,27 см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Лента в верхней части страницы и точка вставки текста в пустом документе"/>
          <p:cNvPicPr/>
          <p:nvPr/>
        </p:nvPicPr>
        <p:blipFill>
          <a:blip r:embed="rId2"/>
          <a:stretch/>
        </p:blipFill>
        <p:spPr>
          <a:xfrm>
            <a:off x="366840" y="920880"/>
            <a:ext cx="5640120" cy="28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2174760" y="618804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Создание первог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Просто начните вводить текс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119640" y="853920"/>
            <a:ext cx="23828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ните 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н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со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77920" y="3994200"/>
            <a:ext cx="59259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о мере ввода курсор перемещается вправо. Дойдя до конца строки у правого края страницы, просто продолжайте вводить текст. Переход на следующую строку осуществится автоматически в процессе в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64960" y="5384880"/>
            <a:ext cx="5926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начать новый абзац, нажмите клавишу ВВ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Лента в верхней части страницы и точка вставки текста в пустом документе"/>
          <p:cNvPicPr/>
          <p:nvPr/>
        </p:nvPicPr>
        <p:blipFill>
          <a:blip r:embed="rId2"/>
          <a:stretch/>
        </p:blipFill>
        <p:spPr>
          <a:xfrm>
            <a:off x="366840" y="920880"/>
            <a:ext cx="5640120" cy="28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22:55Z</dcterms:created>
  <dc:creator>Axel Springer User</dc:creator>
  <dc:description/>
  <cp:keywords/>
  <dc:language>en-US</dc:language>
  <cp:lastModifiedBy>Axel Springer User</cp:lastModifiedBy>
  <dcterms:modified xsi:type="dcterms:W3CDTF">2008-09-02T17:23:04Z</dcterms:modified>
  <cp:revision>1</cp:revision>
  <dc:subject/>
  <dc:title>Учебные курсы по Microsoft® Office  Word 20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41551049</vt:lpwstr>
  </property>
</Properties>
</file>